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63E-D45D-498C-9587-E6075858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84E-960A-4557-B3D3-55AE61DA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A9C-42B5-4D21-BE20-7C874637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BDC-7367-45AB-9107-A3BF977C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911C-15CA-4BFF-92B3-B2F214B20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F706-F287-4515-951E-E9226854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A0F7-4523-4650-B4C4-EE7A12B7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EE55-F7DF-409D-8804-CD4F92BA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6664-2A13-4266-A4F1-DB32F2AC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AA64-BC2A-4725-84BD-7E968B0E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5DAC-A1E5-45C3-A627-4C3D1BD8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121-0C42-404F-A42C-74DF6BFB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1D0D-FAA1-457F-94BA-2D7CA98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1EB9-9161-40B9-B90D-C7E0398B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F3B2-0C2B-463B-836F-B63BF599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6D2C-2B94-4143-9F79-E4935433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85D6-5DA5-4E4D-B970-E5674CE9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E4F-3A2D-44F8-9079-592EE5C9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4EB-CB1C-44F4-A873-00D92883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343-78FC-4480-9B03-E1F8A7A9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31B-F406-419D-B790-9968E3A7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253-3653-42C9-AED9-54E9598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010-8BB7-4F77-ABCE-4C7D0A0A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A09-6D31-4D0C-9442-1454C95A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F685-DD82-4249-AC9A-6D44B97CD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48B4-2DD7-488E-ACC7-886518ABD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ng DNA Using 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5 new microcentrifuge tube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c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c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ct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ct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me Scene (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se are the reaction tu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20-200 uL micropipetter to transfer 26 uL sterile water into each reaction t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tip may be used throughout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0.5-10 uL micropipetter to trans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uL buffer into each reaction t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tip may be used throughout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same technique to transfer 4 uL BSA into each reaction t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tip may be used throughout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0.5 uL micropipetter to transfer 1 uL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D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its corresponding reaction t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ips should be switched out between each tube to prevent cross contamination of DNA sam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0.5 uL micropipetter to transfer 5 uL restriction enzyme into each reaction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change tips between each t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e reaction cocktail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pping the sides of the t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f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bate the tubes at room temperature over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cubation the samples are ready to be analyzed by gel electrophor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can be stored frozen if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the principles of DNA fingerprin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endonuclease activity for genetic engineering and bio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 endonucleases  (restriction enzymes) are capable of cutting both strands of DNA at one specific site in the nucleotide sequence (recognition 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4120" y="2133720"/>
          <a:ext cx="3809880" cy="277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133720"/>
                    <a:ext cx="38098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DNA is cut depends on its base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lated strands of DNA will be consequently cleaved into various smaller size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NA strand may have 5 pieces while another may have 12 pie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NA fragments can then be analyzed by gel electrophoresis for pattern comparison known as DNA fingerprin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x G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entrifug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entrifuge 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-10 uL Micropip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-200 uL Micropip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ipette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 Enzyme 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ves and safety glasses should be donned throughout this a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elps to prevent contamination of the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microcentrifuge rack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DNA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Sterile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Restriction Enz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B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2533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3:00:55Z</dcterms:created>
  <dc:creator>Brooke Landon</dc:creator>
  <dc:description/>
  <dc:language>en-US</dc:language>
  <cp:lastModifiedBy>Brooke Landon</cp:lastModifiedBy>
  <dcterms:modified xsi:type="dcterms:W3CDTF">2006-10-02T13:51:11Z</dcterms:modified>
  <cp:revision>4</cp:revision>
  <dc:subject/>
  <dc:title>Digesting DNA Using Restriction Enzymes</dc:title>
</cp:coreProperties>
</file>